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1AE-4829-4C07-BC18-15CB6959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9BA5-CA18-4228-8A89-77A11D3C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4FD-8B7D-4D68-9414-D09B647A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DA2-D0D6-4588-9179-3D65D3BC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484B-00D0-4EE7-BEB0-8A922E3E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89B6-2BFD-431A-91FE-30FBE277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1242-2B4A-4D89-AAF5-42CA6DA6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A95-90FA-43F9-9FD2-C9740D0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095-52A8-4F6F-942A-1EBCC2EE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2DED-F290-4172-9E0B-72345A74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E008-FE33-4DCF-AAED-BA24E3A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0E2-06E3-452F-ACF8-9B81C51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4EFD-08A4-4BE2-89DF-49A55FDB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E07-EF0E-458F-A874-125684A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5E11-2CD3-4456-BDC7-CC80CB8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A4A-BC39-4DD5-8169-DE6D5B15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06E0-59E4-4345-A96A-6E904AED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7FB-4F32-4916-9ED3-9AAE644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D98-0452-498C-85FF-088D529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101-CED3-4189-8BD8-B1EF40C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10D3-5165-4554-ABBF-3123432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2DA-19D5-40D6-982D-0B667055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F5D-FA11-4336-A718-06BB976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36F-0E4B-48C1-8A9A-B54D9359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940D-1606-44DA-B632-B7A843DC45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B6B9-1A3F-4FC8-BF01-21A3FFDA1C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t-enzymes.com/images/WP/WPPHOTO2.JPG&amp;imgrefurl=http://www.edt-enzymes.com/new_page_3.htm&amp;h=515&amp;w=496&amp;sz=36&amp;tbnid=zT9gxM3HmxH4LM:&amp;tbnh=128&amp;tbnw=123&amp;hl=en&amp;start=5&amp;prev=/images%3Fq%3Denzymes%26svnum%3D10%26hl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suite101.com/235214_primarystructureofprotein_crop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Notes: Enzym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4190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– The Chemist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243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91440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901"/>
              </a:spcBef>
              <a:buClr>
                <a:srgbClr val="000000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Enzy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rote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speeds up a chemical reaction of a cell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Enzymes a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s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substances that speed up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chemical reaction without be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estr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the reaction.  They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can b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ver and over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61679" t="23343" r="0" b="0"/>
          <a:stretch/>
        </p:blipFill>
        <p:spPr>
          <a:xfrm>
            <a:off x="2362320" y="4495680"/>
            <a:ext cx="495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They are composed of long chain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of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mino 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nnected by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epti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onds, folded into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particular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ha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The shap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determines the specif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that the enzyme will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Amino acids linked by peptide bonds., US government Ge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09880"/>
            <a:ext cx="3200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 Enzymes fit like 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o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K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7533" r="0" b="25692"/>
          <a:stretch/>
        </p:blipFill>
        <p:spPr>
          <a:xfrm>
            <a:off x="1447920" y="2209680"/>
            <a:ext cx="6400800" cy="3276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742840" y="160020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95120" y="5333760"/>
            <a:ext cx="83844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086240" y="3809880"/>
            <a:ext cx="10666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44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715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42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bstr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the reactants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ever you want the enzym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on.  Ex: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380988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38080" y="2362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tive S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place on the enzyme  where the substrate attach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 Enzymes ar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pecif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the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bstr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Ex: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crase onl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talyzes Suc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5687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. Enzymes have a specific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empera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which they can function.  Destruction of any protein =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enaturiz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2096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. How do enzymes speed up their chemical reactions?  The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lowe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ctiv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ergy required for the reaction to occ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 are our Enzym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are our enz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your subs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make us 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e comb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have induced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make a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don’t take our enzyme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know that enzymes are really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keep them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just releas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y a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reactions will set us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atch the 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watch the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n this w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act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though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little subst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must be on 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9:20:59Z</dcterms:created>
  <dc:creator>pc owner</dc:creator>
  <dc:description/>
  <dc:language>en-US</dc:language>
  <cp:lastModifiedBy>sautrey</cp:lastModifiedBy>
  <dcterms:modified xsi:type="dcterms:W3CDTF">2009-09-10T19:39:35Z</dcterms:modified>
  <cp:revision>2</cp:revision>
  <dc:subject/>
  <dc:title>Carbon Compounds (simplified)</dc:title>
</cp:coreProperties>
</file>